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27A-86B6-4F55-9C4A-68F1855A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A6DE-E33A-4A46-BBEC-421D4C53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52B-E3EE-4691-B8A8-4BEF68838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72D-D5E5-480B-89C5-FAF66674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3724-E334-4FE6-BE17-2CE8947D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4249-4225-446A-B193-894137D5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8952-68BA-436D-82A9-F599ECF0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3D58-0ECB-40B6-9022-41AE10EB3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3D1C-C02E-4295-A20D-7ACE0074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D9C9-F6FE-4B09-9046-F58032AE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93C6A-8C6C-457E-8FD4-BD1E79E6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6DB-1BEA-43B6-8AD4-A13C664C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2B82-F6D6-453A-A340-18B151D9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CDBC-A294-4F75-9592-5A1AD030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1C38-2AA8-4A0E-99E1-CE453AD1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DF41E-9D7B-4AE2-A3D4-54A70CC0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5EAC-A2AB-484E-9A60-66EF00FA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29EE-EF80-4A60-B440-7E11C72D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858D-A488-4869-9D06-76D05D35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86FE-5633-4576-A891-22E6C79C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5D98-49B9-4C0C-A355-7C696CD9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2164-419F-4908-A60D-1C067173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43D2-CF1E-4B79-9DEE-7B58EC29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244-4CDA-4034-A407-61B6F568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35AC-2947-461D-8C4B-9D81BFB041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FB81-5F26-479D-AA1F-3546D38D2A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quiry-Based Instr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luda Trail 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ber 12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nquiry-based Instru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ahoma"/>
              </a:rPr>
              <a:t>is a teaching technique in which teachers create situations in which students are to solve problem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nquiry-based Instructio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Tahoma"/>
              </a:rPr>
              <a:t>Lessons are designed so that stud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ahoma"/>
              </a:rPr>
              <a:t>make connections to previous knowledge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ahoma"/>
              </a:rPr>
              <a:t>bring their own questions to learning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ahoma"/>
              </a:rPr>
              <a:t>investigate to satisfy their own questions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Tahoma"/>
              </a:rPr>
              <a:t>design ways to try out their idea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“Scientific Metho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9880" y="1828440"/>
            <a:ext cx="51818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k a Ques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o Background Resear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ruct a Hypothes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 Your Hypothesis by Doing an Experi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nalyze Your Data and Draw a Conclus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002600" indent="-5727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Tahoma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municate Your Resul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6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36748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“Scientific Method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Tahoma"/>
            </a:endParaRPr>
          </a:p>
        </p:txBody>
      </p:sp>
      <p:pic>
        <p:nvPicPr>
          <p:cNvPr id="110" name="" descr="Overview of the Scientific Method"/>
          <p:cNvPicPr/>
          <p:nvPr/>
        </p:nvPicPr>
        <p:blipFill>
          <a:blip r:embed="rId1"/>
          <a:stretch/>
        </p:blipFill>
        <p:spPr>
          <a:xfrm>
            <a:off x="228600" y="1905120"/>
            <a:ext cx="4648320" cy="4468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00" y="66960"/>
            <a:ext cx="18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380988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he 6 Stages of the Inquiry Cycle?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(Warner and Myers, 2011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62520" y="1980720"/>
            <a:ext cx="495288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Inquisition-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stating a “What if” or “I wonder” question to be investigat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Acquisition-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brainstorming possible procedu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94624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he 6 Stages of the Inquiry Cycle?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(Continued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Supposition-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 identifying an “I think” statement to test 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Implementation-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designing and carrying out a pla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3526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the 6 Stages of the Inquiry Cycle?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(Continued)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9880" y="2017440"/>
            <a:ext cx="518184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Summation-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 collecting evidence and drawing conclus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Exhibition- </a:t>
            </a:r>
            <a:r>
              <a:rPr b="0" lang="en-US" sz="3000" spc="-1" strike="noStrike">
                <a:solidFill>
                  <a:srgbClr val="3333cc"/>
                </a:solidFill>
                <a:latin typeface="Tahoma"/>
              </a:rPr>
              <a:t>sharing and communicating resul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22464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507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5-E Model----STE</a:t>
            </a:r>
            <a:r>
              <a:rPr b="0" lang="en-US" sz="4400" spc="-1" strike="noStrike" baseline="30000">
                <a:solidFill>
                  <a:srgbClr val="333399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43280" y="1981080"/>
            <a:ext cx="50670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0T16:15:38Z</dcterms:created>
  <dc:creator>dnorton</dc:creator>
  <dc:description/>
  <dc:language>en-US</dc:language>
  <cp:lastModifiedBy>dnorton</cp:lastModifiedBy>
  <dcterms:modified xsi:type="dcterms:W3CDTF">2011-10-13T13:45:57Z</dcterms:modified>
  <cp:revision>7</cp:revision>
  <dc:subject/>
  <dc:title>Inquiry-Based Instruction</dc:title>
</cp:coreProperties>
</file>